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1A95-BCDE-4255-9202-B2572C8FEC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9386-7320-4C06-BE6A-41AA0FE70E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7B2A-E6A3-4404-B22F-A7A44B0A2A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4A7D-79FF-4B76-A35B-988D8659AC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37BB-DFA8-4B52-80B3-53DA1707A0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DCCB-3943-4F12-BF12-428647F4CC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2A21-4AA0-40A0-9A11-E6B08440A3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9879-1868-46D0-8436-13CD8742F4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B67F-BBFA-483C-A456-6D1B319690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6601-5903-4BB9-ABDF-1381BD65AF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A466-2BAD-4909-8DC4-992E6751CF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4ED3-F2F1-4E7F-96E1-105F7208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FB8-748F-4C8D-87F4-5EE02A1F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E7F4D-808A-4DD9-94CC-94F2E801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B8979-788A-4314-9E23-1104BFCC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8BE69-6DD1-4818-B499-37F4BF18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BE98A-818D-4912-8ED8-64096A53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68151-5A20-445B-B51B-DBAE5FBA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CF01D-B60F-4112-B2D4-597A2FAC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CCD54-5B38-43C3-BB2D-CC939DEC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BF543-4E57-430C-9E8F-371EFE4F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1FB0B-1827-44E0-9868-BE89B0ED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2ACD4-B445-4844-9E4C-2122AD1C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242B-717E-4D80-8C7B-33170F25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CD820-E872-4A2B-8290-F8C66C8C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B8BDC-70EE-4CFB-AEFB-E13BB9C0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B846E-1AC0-44AC-A77C-5071B790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D5609-C4D6-41A1-80EB-AE7C5175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DA9DB-97FC-40E5-B27D-2641E792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89232-D0A6-475A-BDE6-5CA6F94B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FFC9A-1094-48D3-8EFB-9A1DA955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1B339-4C34-4B9D-B64D-3762B6B7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E4694-7465-4A8D-A244-1490E11B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C29A1-7842-459C-81E6-46F61540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A48-7AFD-44B0-A490-485253B8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76293-9390-4CD9-95F2-D15E000E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D2B62-099B-441C-97EE-6FD912F1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F7CE3-6AFE-4BC2-9D31-E9258BD0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35440-3201-4575-9F65-DE20FC9C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607A2-9BF0-4B89-8317-9994A9D7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3951F-D2C6-4FA5-AB01-3E79EFB1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6B60D-343C-41F4-86A3-FFE81E1E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57153-2050-4714-B0C0-5AA04581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80FB4-766B-482A-830D-6C7AFA63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E8079-7EE3-4A54-9AA7-4EBD8EF1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7F3F-EF02-4440-9686-C1E3E719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0E9CE-0C01-4B43-8FC5-7E504C27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022AB-A9B6-4B12-8030-F3A4BD37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5EA5E-ED35-4EDD-A24F-5329BE37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8422C-D528-49F2-B73F-9ADC59F9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3610D-8606-4233-B51D-8320F53D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99386-0173-4A85-ABC4-2354E927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E4860-2CD4-4E57-A000-46B182D3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8B428-583D-4D23-AA24-016EBA5F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BC3F1-1BD5-47B0-ADC4-646BD410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19D39-0616-4143-86CA-01F9AF57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C907-AF65-4E48-8244-C2B7C0E7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B4E02-0F42-4FEF-A83B-70E0739A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46CA2-EB5B-4F41-8665-FE670AAC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582B3-8EB4-469F-BA42-6D9D2C7A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79DBC-E2D8-47D8-9A4B-99A1DD37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62C98-3DC6-40DE-A5A7-B90FFA61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7DD3-959F-43D8-8B22-551FE2DE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A66B-F63D-48EA-93A8-1D6C5083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C6A2-9C96-4D32-A0D9-036102E0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6953-5FC7-44BB-841A-E566485D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C880-3818-41E2-9598-7B0BF823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7A1-AA13-4095-A9E0-F2A693A5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5B6E-E3B7-4DDA-8225-D6E55D47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70E3-F2CD-4FC8-8DDC-FB1C5B66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E32D-638E-4791-A720-9611C7B6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D2B5-98DD-4671-830C-2840F92E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F335-FDA4-497A-B269-DD8427E0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4EC69-0EA6-4CA4-96A1-7B68EE6B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61EAE-CE9B-4E9C-AECB-F14B2B77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B14EC-52DC-4009-B436-FAABF4A0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D93C4-498B-454E-9F43-9C14F2E0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7C315-D827-437B-A1E5-6811BFC9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0CAA-1FDB-4AC1-BAF6-60AAB21F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F5AE6-A35B-4C7E-9D33-223C0FC9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4566B-C9A0-4469-90DF-5DE5C7C6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53F3C-3EED-4E6A-AAF0-92AA30E4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8DBDA-865E-4989-AC8E-E58CFB2C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95553-D06B-4F9E-AC31-857617A5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70992-1065-44E7-BCBA-BFC30456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C48D0-72DC-4D71-8F68-07366E88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39B17-483A-460F-A813-27222C46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936FC-E214-4751-997B-3E851590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112CC-6427-4184-88DE-375FA6B1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5744-16B1-43E9-9AE3-B88D6235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2EF6F-5AD6-479B-8F87-A5746D9C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8AF27-CBBB-4EEE-9A26-B6FA448D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AED9C-B996-4CB9-8C18-99600973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6A387-7533-4E95-AEE8-4197B3A6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26C26-B223-40F2-96CB-F139D410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C0CE0-96C4-42FB-9A3E-0D8FF0DA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EF295-B81C-40B5-8DAE-15BD2168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46B7A-8C4E-4E3B-A143-800F3A98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AE7E6-EA61-4640-8CD1-3C6A1AB1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3C1E5-146C-49A0-85C9-8597775D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231-CE25-4FEE-84C2-5EDCEAD2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34D41-E70F-45F9-A01A-4E2D089F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C6EE2-8852-428E-967B-45CBD360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FE753-4B7D-447A-A414-6A7F63E8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14C9C-817D-4088-AC0D-CF29C7F3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9E13C-6ACC-43A9-B29D-2FD061C3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AEB77-CD69-4B83-A40E-E41823B6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F9711-D93B-4915-9F0B-C5A6C16A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5A1ED-8DC5-4640-AFBC-7EF8BB68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7E545-F36A-4EBC-B2F9-68DE2CCE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EFE01-3F13-4D12-9998-F3239AB6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7B0B-A209-4164-93D4-F9B25DB2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93C76-E97D-4D59-8933-52EF08E0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BA2A0-4A89-4F6B-841D-EBE77E07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6EEDF-A75E-47A2-A810-A4D59BF6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BE93A-E914-4904-B1FB-C5F3C5B7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B10F8-CD66-4D14-BFAD-6496C40F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2787E-F6D2-4C45-9718-3E948FF2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0A138-8D5D-4448-94C4-0EDF327B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50357-09A2-4316-B4FC-297F544D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B66C1-8141-4F07-AAB1-38DE25CC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F05DC-9E62-4B9F-88CF-399B89E7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0A79-FD56-4439-B5CE-25090450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FF327-8B1B-4A80-BFA3-AA577DA0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F354B-1775-4890-B642-3453857A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B9812-B2FC-4B2E-8975-30F73AED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D72F2-1F0F-4F3C-89B5-DF866C08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3DBB5-07DF-4A03-9C7A-E7274BB2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DCAE6-86AB-4C9D-B1B0-B511AF03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70CAE-6B2B-4E92-866D-1F03E38A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D9E28-326E-4DAC-AB7E-61985FBB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61380-B3B8-449A-B027-8C3F9AF8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76C60-725A-49F8-963F-D4A989F3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34B8-D73A-474A-AABC-1289B7AA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112F8-F6A2-4000-9EFD-01E0330B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8FC59-1AA3-41AA-99BD-3CA3882C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BC46A-6C96-4B25-B75E-879C11A3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44414-5C42-4250-B7DD-BE59A014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2C4BF-E79A-4ADF-B52E-1A74343E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3F1A3-7168-4F7D-AD7D-67471EAC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14CF0-8D53-4314-8696-B94C6EBF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723DD-587F-42D4-A025-2C1A2136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179B6-C509-4EE0-B9A6-D5A90808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41F71-DEB9-4EAF-839F-08BCC4A6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780-D214-4AF0-B29B-225D27D3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7A509-74DD-4BEA-9B26-6AB8AFB9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8B157-674C-4450-9E85-161E4A05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BDCB3-C668-43EE-8288-4E91F57F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453D3-B1BD-4B35-A66C-9539C76E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A7957-7A0A-49CD-8F29-9531ADB2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63775-6BFE-467F-B0B8-0C3725F9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E4668-01AC-4117-989B-7090F1F1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D5F53-761E-4B7B-B684-48281220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EDF53-4731-4081-9595-DB4EEA16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CC923-D9F2-45AE-8665-333F3E41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4B4A-A9EE-4A04-964C-CF6FE39887E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3EB0-49E6-430F-B025-CC23261A5CB3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5D5C-615C-4386-B754-852B295115A2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590C-4466-4659-823A-87E5BC10EC1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5C9B-9563-4FAE-B70F-186E48E5E4E4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8298-DA3A-470F-8398-AEF963BB1F79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C9D5-1116-4C13-90F6-CF86C9720DA6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136D-FCBA-4D12-AF38-15641761DB8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EA62-53B2-4741-98A9-4D98379F10EE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4F51-BC2B-4D94-A1E0-5071135D6437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383B-1701-46C1-80F1-AF975C957A77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3930-701B-45C9-991F-91AFC25DE24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3"/>
          <p:cNvSpPr/>
          <p:nvPr/>
        </p:nvSpPr>
        <p:spPr>
          <a:xfrm>
            <a:off x="250920" y="1268280"/>
            <a:ext cx="86421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omic Sans MS"/>
              </a:rPr>
              <a:t>Кратко об истории развития радиосвяз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1066680" y="609480"/>
            <a:ext cx="784872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324000" y="3738600"/>
            <a:ext cx="8591400" cy="28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1896 г. он уже догонял Попова и в скором времени в значительной степени превзошел его, потому что имел больше поддержки и свободы. Насколько аморфная Россия не заинтересовалась исследованиями Попова, настолько Запад заинтересовался исследованиями Марко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1898 году Маркони впервые передал радиосигнал через Ла-Манш, а в 1901 г.  – через Атлант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белевская премия по физике 19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7" descr="Marconi2"/>
          <p:cNvPicPr/>
          <p:nvPr/>
        </p:nvPicPr>
        <p:blipFill>
          <a:blip r:embed="rId1"/>
          <a:srcRect l="0" t="0" r="3264" b="-877"/>
          <a:stretch/>
        </p:blipFill>
        <p:spPr>
          <a:xfrm>
            <a:off x="3456000" y="1052640"/>
            <a:ext cx="2592360" cy="20635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8" descr="marconi_1"/>
          <p:cNvPicPr/>
          <p:nvPr/>
        </p:nvPicPr>
        <p:blipFill>
          <a:blip r:embed="rId2"/>
          <a:stretch/>
        </p:blipFill>
        <p:spPr>
          <a:xfrm>
            <a:off x="6227640" y="1071720"/>
            <a:ext cx="1914480" cy="2077920"/>
          </a:xfrm>
          <a:prstGeom prst="rect">
            <a:avLst/>
          </a:prstGeom>
          <a:ln w="0">
            <a:noFill/>
          </a:ln>
        </p:spPr>
      </p:pic>
      <p:sp>
        <p:nvSpPr>
          <p:cNvPr id="568" name="Прямоугольник 1"/>
          <p:cNvSpPr/>
          <p:nvPr/>
        </p:nvSpPr>
        <p:spPr>
          <a:xfrm>
            <a:off x="1206360" y="876240"/>
            <a:ext cx="216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опытов Попова аналогичное устройство в Лондоне представил Гульельмо Маркони (Marconi, Guglielmo; 1874-1937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Прямоугольник 1"/>
          <p:cNvSpPr/>
          <p:nvPr/>
        </p:nvSpPr>
        <p:spPr>
          <a:xfrm>
            <a:off x="3384720" y="692280"/>
            <a:ext cx="56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Вальдемар Поулсен (</a:t>
            </a: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Valdemar Poulsen), 1869–1942</a:t>
            </a: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. Датский физик и изобрета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Рисунок 2" descr=""/>
          <p:cNvPicPr/>
          <p:nvPr/>
        </p:nvPicPr>
        <p:blipFill>
          <a:blip r:embed="rId1"/>
          <a:stretch/>
        </p:blipFill>
        <p:spPr>
          <a:xfrm>
            <a:off x="200160" y="117360"/>
            <a:ext cx="2895480" cy="3743280"/>
          </a:xfrm>
          <a:prstGeom prst="rect">
            <a:avLst/>
          </a:prstGeom>
          <a:ln w="0">
            <a:noFill/>
          </a:ln>
        </p:spPr>
      </p:pic>
      <p:sp>
        <p:nvSpPr>
          <p:cNvPr id="571" name="Прямоугольник 3"/>
          <p:cNvSpPr/>
          <p:nvPr/>
        </p:nvSpPr>
        <p:spPr>
          <a:xfrm>
            <a:off x="179280" y="3995640"/>
            <a:ext cx="885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течение первых десятилетий XX века его дуговая система передачи была основой большинства устройств радиосвязи. Кроме дуги, Поулсен первым разработал (в 1899 г.) принципы магнитной запи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оме обеспечения более мощной и чистой передачи телеграфных сигналов, она впервые в истории радио позволила всерьез задуматься о возможности передачи гол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Рисунок 1" descr=""/>
          <p:cNvPicPr/>
          <p:nvPr/>
        </p:nvPicPr>
        <p:blipFill>
          <a:blip r:embed="rId1"/>
          <a:stretch/>
        </p:blipFill>
        <p:spPr>
          <a:xfrm>
            <a:off x="611280" y="31680"/>
            <a:ext cx="7900920" cy="5632560"/>
          </a:xfrm>
          <a:prstGeom prst="rect">
            <a:avLst/>
          </a:prstGeom>
          <a:ln w="0">
            <a:noFill/>
          </a:ln>
        </p:spPr>
      </p:pic>
      <p:sp>
        <p:nvSpPr>
          <p:cNvPr id="573" name="Прямоугольник 2"/>
          <p:cNvSpPr/>
          <p:nvPr/>
        </p:nvSpPr>
        <p:spPr>
          <a:xfrm>
            <a:off x="0" y="5707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Дуговой генератор Поулсена на радиостанции (о. Ява, Индонезия). Май 1923 г. Мощность генератора  – 3.6 МВт. Длина антенны – 2000 м, ширина – 240 м, высота подвеса – 500 м над дном ущелья. Радиостанция предназначалась для прямой связи на расстоянии ок. 12000 км на волнах длиной 20-75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1049400" y="534960"/>
            <a:ext cx="784836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2"/>
          <p:cNvSpPr/>
          <p:nvPr/>
        </p:nvSpPr>
        <p:spPr>
          <a:xfrm>
            <a:off x="108000" y="44280"/>
            <a:ext cx="892800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Calibri"/>
              </a:rPr>
              <a:t>В 1917—1918 г. в США (Э. Армстронг), во Франции (Л. Леви), в Германии (В. Шоттки) был предложен принцип супергетеродинного приёма. Из-за несовершенства тогдашних электронных ламп супергетеродин не мог быть качественно реализов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Calibri"/>
              </a:rPr>
              <a:t>В 1929-30 гг. с появлением радиоламп с экранной сеткой (тетродов и пентодов) супергетеродинный приёмник становится основным тип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3"/>
          <p:cNvSpPr/>
          <p:nvPr/>
        </p:nvSpPr>
        <p:spPr>
          <a:xfrm>
            <a:off x="92160" y="2697120"/>
            <a:ext cx="558000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Эдвин Говард Армстронг (</a:t>
            </a: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Edwin Howard Armstrong), 1890–1954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мериканский изобретатель и инженер-электрик, внесший фундаментальный вклад в развитие радиотехники. Наиболее значимые изобретения Армстронга – супергетеродинный приемник, частотная модуляция и регенеративная схема (положительная обратная связ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Рисунок 4" descr=""/>
          <p:cNvPicPr/>
          <p:nvPr/>
        </p:nvPicPr>
        <p:blipFill>
          <a:blip r:embed="rId1"/>
          <a:stretch/>
        </p:blipFill>
        <p:spPr>
          <a:xfrm>
            <a:off x="5811840" y="2565360"/>
            <a:ext cx="29638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1187280" y="596880"/>
            <a:ext cx="784872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Рисунок 4" descr=""/>
          <p:cNvPicPr/>
          <p:nvPr/>
        </p:nvPicPr>
        <p:blipFill>
          <a:blip r:embed="rId1"/>
          <a:stretch/>
        </p:blipFill>
        <p:spPr>
          <a:xfrm>
            <a:off x="1332000" y="596880"/>
            <a:ext cx="2289240" cy="2978280"/>
          </a:xfrm>
          <a:prstGeom prst="rect">
            <a:avLst/>
          </a:prstGeom>
          <a:ln w="0">
            <a:noFill/>
          </a:ln>
        </p:spPr>
      </p:pic>
      <p:sp>
        <p:nvSpPr>
          <p:cNvPr id="535" name="Прямоугольник 5"/>
          <p:cNvSpPr/>
          <p:nvPr/>
        </p:nvSpPr>
        <p:spPr>
          <a:xfrm>
            <a:off x="3898800" y="189000"/>
            <a:ext cx="4572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Джеймс Клерк Максвелл (Clerk Maxwell) (1831-1879)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оугольник 6"/>
          <p:cNvSpPr/>
          <p:nvPr/>
        </p:nvSpPr>
        <p:spPr>
          <a:xfrm>
            <a:off x="1174680" y="3860640"/>
            <a:ext cx="7632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нглийский физик, создатель классической электродинамики. Создал теорию электромагнитного поля; ввел понятие тока смещения, предсказал существование электромагнитных волн, выдвинул идею электромагнитной природы света. К 1869 сформулировал в виде системы четырех уравнений основные закономерности поведения электромагнитного по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Рисунок 7" descr=""/>
          <p:cNvPicPr/>
          <p:nvPr/>
        </p:nvPicPr>
        <p:blipFill>
          <a:blip r:embed="rId2"/>
          <a:stretch/>
        </p:blipFill>
        <p:spPr>
          <a:xfrm>
            <a:off x="4738680" y="998640"/>
            <a:ext cx="278604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Рисунок 1" descr=""/>
          <p:cNvPicPr/>
          <p:nvPr/>
        </p:nvPicPr>
        <p:blipFill>
          <a:blip r:embed="rId1"/>
          <a:stretch/>
        </p:blipFill>
        <p:spPr>
          <a:xfrm>
            <a:off x="971640" y="149400"/>
            <a:ext cx="7272360" cy="65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1054080" y="622440"/>
            <a:ext cx="7848720" cy="60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Рисунок 1" descr=""/>
          <p:cNvPicPr/>
          <p:nvPr/>
        </p:nvPicPr>
        <p:blipFill>
          <a:blip r:embed="rId1"/>
          <a:stretch/>
        </p:blipFill>
        <p:spPr>
          <a:xfrm>
            <a:off x="1486080" y="631800"/>
            <a:ext cx="2149200" cy="2801880"/>
          </a:xfrm>
          <a:prstGeom prst="rect">
            <a:avLst/>
          </a:prstGeom>
          <a:ln w="0">
            <a:noFill/>
          </a:ln>
        </p:spPr>
      </p:pic>
      <p:sp>
        <p:nvSpPr>
          <p:cNvPr id="541" name="Прямоугольник 2"/>
          <p:cNvSpPr/>
          <p:nvPr/>
        </p:nvSpPr>
        <p:spPr>
          <a:xfrm>
            <a:off x="1198440" y="3449520"/>
            <a:ext cx="7559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дложил использовать для первичной обмотки медный провод в лаковой изоляции, межслоевую шелковую изоляцию и межобмоточную изоляцию в виде стеклянной труб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результате многочисленных улучшений устройство стали называть «катушка Румкорфа». Применялась в большинстве опытов с электромагнитными волнами в конце XIX – начале XX вв, в т.ч. в приемниках Герца, Лоджа, Попова и Марко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3"/>
          <p:cNvSpPr/>
          <p:nvPr/>
        </p:nvSpPr>
        <p:spPr>
          <a:xfrm>
            <a:off x="4067280" y="55404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енрих Даниель Румкорф (Heinrich Daniel Ruhmkorff)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1803-1877) Немецкий исследователь, в середине XIX века вел работы по усовершенствованию индукционных кату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1187280" y="620640"/>
            <a:ext cx="784872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1168560" y="639720"/>
            <a:ext cx="426708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Немецкий физик Генрих Герц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1887 году осуществил первую в мире радиопередачу и радиоприём радиовол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Рисунок 1" descr=""/>
          <p:cNvPicPr/>
          <p:nvPr/>
        </p:nvPicPr>
        <p:blipFill>
          <a:blip r:embed="rId1"/>
          <a:stretch/>
        </p:blipFill>
        <p:spPr>
          <a:xfrm>
            <a:off x="5975280" y="981000"/>
            <a:ext cx="2274840" cy="2855880"/>
          </a:xfrm>
          <a:prstGeom prst="rect">
            <a:avLst/>
          </a:prstGeom>
          <a:ln w="0">
            <a:noFill/>
          </a:ln>
        </p:spPr>
      </p:pic>
      <p:sp>
        <p:nvSpPr>
          <p:cNvPr id="546" name="Прямоугольник 3"/>
          <p:cNvSpPr/>
          <p:nvPr/>
        </p:nvSpPr>
        <p:spPr>
          <a:xfrm>
            <a:off x="1133640" y="27338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иопередатч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ерца создан на основе катушки Румкорфа (с ударным возбуждением колебательного контура ключевым прерывателе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4"/>
          <p:cNvSpPr/>
          <p:nvPr/>
        </p:nvSpPr>
        <p:spPr>
          <a:xfrm>
            <a:off x="5653080" y="4151160"/>
            <a:ext cx="32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честве приемника Герц использовал проволочное незамкнутое кольцо у с такими же, как у «передатчика» латунными шариками на концах и регулируемым искровым промежу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Рисунок 1" descr=""/>
          <p:cNvPicPr/>
          <p:nvPr/>
        </p:nvPicPr>
        <p:blipFill>
          <a:blip r:embed="rId2"/>
          <a:stretch/>
        </p:blipFill>
        <p:spPr>
          <a:xfrm>
            <a:off x="1219320" y="3971880"/>
            <a:ext cx="4433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1054080" y="622440"/>
            <a:ext cx="7848720" cy="60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3"/>
          <p:cNvSpPr/>
          <p:nvPr/>
        </p:nvSpPr>
        <p:spPr>
          <a:xfrm>
            <a:off x="4021200" y="692280"/>
            <a:ext cx="4856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дуа́рд Бранли́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1844 - 1940) — французский изобретатель, физик и инженер. Один из изобретателей радио, первым использовавший этот тер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5"/>
          <p:cNvSpPr/>
          <p:nvPr/>
        </p:nvSpPr>
        <p:spPr>
          <a:xfrm>
            <a:off x="1116000" y="3716280"/>
            <a:ext cx="7761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дним из изобретений Бранли явилось создание прибора для регистрации электромагнитных волн. Позднее этот прибор получил название когерер (1890). Он представлял собой стеклянную трубку, наполненную металлическими опилками которые могли резко и намного, в несколько сот раз, менять свою проводимость (сопротивление) под воздействием радиосиг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Рисунок 2" descr=""/>
          <p:cNvPicPr/>
          <p:nvPr/>
        </p:nvPicPr>
        <p:blipFill>
          <a:blip r:embed="rId1"/>
          <a:stretch/>
        </p:blipFill>
        <p:spPr>
          <a:xfrm>
            <a:off x="1457280" y="669960"/>
            <a:ext cx="216072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1054080" y="622440"/>
            <a:ext cx="7848720" cy="60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Рисунок 1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2246400" cy="3025800"/>
          </a:xfrm>
          <a:prstGeom prst="rect">
            <a:avLst/>
          </a:prstGeom>
          <a:ln w="0">
            <a:noFill/>
          </a:ln>
        </p:spPr>
      </p:pic>
      <p:sp>
        <p:nvSpPr>
          <p:cNvPr id="555" name="Прямоугольник 2"/>
          <p:cNvSpPr/>
          <p:nvPr/>
        </p:nvSpPr>
        <p:spPr>
          <a:xfrm>
            <a:off x="1054080" y="400068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В 1894 г., 14 августа, сэр Оливер Джозеф Лодж и Александр Мирхед на заседании Британской ассоциации содействия развитию науки в Оксфордском университете произвели первую успешную демонстрацию радиотелеграфии на расстоян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0 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Рисунок 3" descr=""/>
          <p:cNvPicPr/>
          <p:nvPr/>
        </p:nvPicPr>
        <p:blipFill>
          <a:blip r:embed="rId2"/>
          <a:stretch/>
        </p:blipFill>
        <p:spPr>
          <a:xfrm>
            <a:off x="5724360" y="141120"/>
            <a:ext cx="2067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960480" y="504720"/>
            <a:ext cx="784872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6342120" y="3243240"/>
            <a:ext cx="24494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оприемник – «грозоотметчик» был продемонстрирован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мая 18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2" descr="popov_radio_scheme"/>
          <p:cNvPicPr/>
          <p:nvPr/>
        </p:nvPicPr>
        <p:blipFill>
          <a:blip r:embed="rId1"/>
          <a:stretch/>
        </p:blipFill>
        <p:spPr>
          <a:xfrm>
            <a:off x="6576840" y="1052640"/>
            <a:ext cx="1981440" cy="2190600"/>
          </a:xfrm>
          <a:prstGeom prst="rect">
            <a:avLst/>
          </a:prstGeom>
          <a:ln w="0">
            <a:noFill/>
          </a:ln>
        </p:spPr>
      </p:pic>
      <p:sp>
        <p:nvSpPr>
          <p:cNvPr id="560" name="Прямоугольник 1"/>
          <p:cNvSpPr/>
          <p:nvPr/>
        </p:nvSpPr>
        <p:spPr>
          <a:xfrm>
            <a:off x="1127160" y="698400"/>
            <a:ext cx="2708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Calibri"/>
              </a:rPr>
              <a:t>В СССР датой рождения радио считалось 7 мая 1895 года, когда А. С. Попов продемонстрировал грозоотметчик на заседании Русского физико-химического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ервая публикация сообщения о «разрядоотметчике Попова» сделана Д. А. Лачиновым во втором издании его учебника «Метеорология и климатология» (июль 189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"/>
          <p:cNvSpPr/>
          <p:nvPr/>
        </p:nvSpPr>
        <p:spPr>
          <a:xfrm>
            <a:off x="3970440" y="44942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ов и Маркони осуществили первые попытки увеличить расстояние между передатчиком и приемником, постепенно совершенствуя разрядник и когерер и повышая эффективность системы с помощью антенны и зазем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Рисунок 2" descr=""/>
          <p:cNvPicPr/>
          <p:nvPr/>
        </p:nvPicPr>
        <p:blipFill>
          <a:blip r:embed="rId2"/>
          <a:stretch/>
        </p:blipFill>
        <p:spPr>
          <a:xfrm>
            <a:off x="3851280" y="1039680"/>
            <a:ext cx="240516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Прямоугольник 1"/>
          <p:cNvSpPr/>
          <p:nvPr/>
        </p:nvSpPr>
        <p:spPr>
          <a:xfrm>
            <a:off x="108000" y="115920"/>
            <a:ext cx="8928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.С. Попов установил (весной 1897) радиосвязь на расстояние около 600 м, а затем (летом 1997) до 5 км между кораблями в Кронштадтской гава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 время опытов обнаружил, что металлические корабли влияют на распространение вол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ложил способ определения направления на работающий передат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вое практическое использование изобретения А.С. Попова. Броненосец береговой обороны «Генерал-адмирал Апраксин» налетел на камни у южной оконечности о. Гогланд. Для обеспечения руководства работами по снятию броненосца с мели Попов предложил организовать радиосвязь между Коткой и Гогландом. На берегу были воздвигнуты мачты, подвешены антенны и установлена аппаратура. Во время спасательных работ связь между берегом, островом и броненосцем поддерживалась по беспроволочному телеграфу. При этом дальность связи достигала 45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02:13:15Z</dcterms:created>
  <dc:creator>Гладких Борис</dc:creator>
  <dc:description/>
  <dc:language>en-US</dc:language>
  <cp:lastModifiedBy>Silver</cp:lastModifiedBy>
  <dcterms:modified xsi:type="dcterms:W3CDTF">2023-12-20T08:38:45Z</dcterms:modified>
  <cp:revision>520</cp:revision>
  <dc:subject/>
  <dc:title>Слайд 1</dc:title>
</cp:coreProperties>
</file>